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BF1-2E5A-420C-8AA6-C2EAA2FB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9A1-7A4A-4AAD-89F5-611F9DDD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56A-FA81-4DD8-8ED1-3B3D5A2B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EFB-2743-44F2-9756-8AA9ABEE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5D4-2C1C-4701-BE44-CBC46C2A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5DB-2802-4D94-8942-81D59BF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177-0204-4957-82C3-BB192CC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9A9-F806-45DD-B0F0-63148FC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FAD-A3F5-4B30-9000-747849B3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101-6378-4593-84A2-619512E8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1C3-5C81-4825-B169-F0007CD2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632-7FC5-49FE-8CE6-15169A58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0C1-EBF9-480F-9665-F25E07AD3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02160" y="260280"/>
            <a:ext cx="464184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556092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4000" y="765000"/>
            <a:ext cx="33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LUŠAN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280" y="2060640"/>
            <a:ext cx="428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ADIO-STAN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924280"/>
            <a:ext cx="3311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VEMB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4149720"/>
            <a:ext cx="33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8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80" y="0"/>
            <a:ext cx="8977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češće(SHARE) najslušanijih radio stanica u ukupnom auditorijumu NOVEMBA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404640"/>
          <a:ext cx="8899560" cy="593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899560" cy="59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908720" y="59500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9080" y="59500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17960" y="59706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7080" y="60339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ogr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1000" y="905760"/>
            <a:ext cx="18878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 11,7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+1,6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B92 10,2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-0,2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Beograd 1 6,5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-1,3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Index 3,3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+1,3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adstar 3,1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+1,1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202 2,4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± 0,0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Fokus 1,5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+0,7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Beograd 2 0,7 (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+0,1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lušanost radio-stanica novembar 2008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170-9741-4D8E-861D-0DF897BD13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0" y="0"/>
            <a:ext cx="8510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češće(SHARE) najslušanijih radio stanica  BGD EMITERI NOVEMBAR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-181080" y="549360"/>
          <a:ext cx="91314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549360"/>
                    <a:ext cx="91314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lušanost radio-stanica novembar 2008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97B-7861-4589-9C06-DCAA9F32F4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7920" y="50760"/>
            <a:ext cx="89362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Učešće(SHARE) SLUŠANOSTI RADIO-STANICA NACIONALNI I BEOGRADSKI EMITERI NOVEMBAR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1160" y="549360"/>
          <a:ext cx="9132840" cy="588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549360"/>
                    <a:ext cx="9132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02720" y="58053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NAX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42640" y="580536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lušanost radio-stanica novembar 2008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4A1-3ACE-4AEF-85A3-C09F446704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1125360"/>
          <a:ext cx="9144000" cy="48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-5760" y="50760"/>
            <a:ext cx="78937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Učešće(SHARE) SLUŠANOSTI RADIO-STANICA U NOVOM SADU NOVEMBAR 2008. GOD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lušanost radio-stanica novembar 2008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D5C-EA49-4AEC-A526-B6309EEFC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5760" y="50760"/>
            <a:ext cx="71028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Učešće(SHARE) SLUŠANOSTI RADIO-STANICA U NIŠU NOVEMBAR 2008. GOD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168560"/>
          <a:ext cx="91440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8560"/>
                    <a:ext cx="91440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lušanost radio-stanica novembar 2008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F4A-BD3E-4F1F-B079-2A673BB447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7:58:37Z</dcterms:created>
  <dc:creator>vuk</dc:creator>
  <dc:description/>
  <dc:language>en-US</dc:language>
  <cp:lastModifiedBy>vuk</cp:lastModifiedBy>
  <dcterms:modified xsi:type="dcterms:W3CDTF">2008-12-16T20:29:36Z</dcterms:modified>
  <cp:revision>5</cp:revision>
  <dc:subject/>
  <dc:title>Slide 1</dc:title>
</cp:coreProperties>
</file>